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3C1-D5A0-4FA2-8D6C-B46DA73A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957-1AFC-4463-9D39-2C24E0F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9B2-A3D3-4046-AEB2-D74D4780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5FC-3785-48C8-9C97-C8DB306D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F9C-6D7D-4409-AAF4-03F41043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045-4376-4819-94DE-F4D5346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3A5-0824-4A1A-9C19-F97DF76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5D9-5410-416B-9D16-2CAFDDB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803-D75F-4707-90AA-5DE979C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306-EDC1-4A88-8E8E-D92723D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998-7410-4B25-8D49-A845E8E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79C-60D8-4F54-8293-0D337B5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2 DM 13        112 DM 1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15AF-C2FB-4D1E-80E3-BB02F6BF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HEARINGS AND APP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00280" y="1930320"/>
            <a:ext cx="16574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14760" y="2894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1930320"/>
            <a:ext cx="1542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14360" y="3251160"/>
            <a:ext cx="17146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EP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886200" y="3251160"/>
            <a:ext cx="1771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NSELOR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018040" y="38084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503440" y="1828800"/>
            <a:ext cx="189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2765520" y="197964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2571840" y="1930320"/>
            <a:ext cx="1695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914400" y="4775040"/>
            <a:ext cx="16002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2743200" y="4775040"/>
            <a:ext cx="13716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4572000" y="533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343400" y="4775040"/>
            <a:ext cx="154296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914400" y="6095880"/>
            <a:ext cx="16002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8"/>
          <p:cNvSpPr/>
          <p:nvPr/>
        </p:nvSpPr>
        <p:spPr>
          <a:xfrm>
            <a:off x="4343400" y="6095880"/>
            <a:ext cx="1542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S 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0"/>
          <p:cNvSpPr/>
          <p:nvPr/>
        </p:nvSpPr>
        <p:spPr>
          <a:xfrm>
            <a:off x="4343400" y="7416720"/>
            <a:ext cx="1542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2"/>
          <p:cNvSpPr/>
          <p:nvPr/>
        </p:nvSpPr>
        <p:spPr>
          <a:xfrm>
            <a:off x="3429000" y="28447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5"/>
          <p:cNvSpPr/>
          <p:nvPr/>
        </p:nvSpPr>
        <p:spPr>
          <a:xfrm>
            <a:off x="4857840" y="304812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6"/>
          <p:cNvSpPr/>
          <p:nvPr/>
        </p:nvSpPr>
        <p:spPr>
          <a:xfrm>
            <a:off x="2171880" y="304812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8"/>
          <p:cNvSpPr/>
          <p:nvPr/>
        </p:nvSpPr>
        <p:spPr>
          <a:xfrm>
            <a:off x="2171880" y="304812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9"/>
          <p:cNvSpPr/>
          <p:nvPr/>
        </p:nvSpPr>
        <p:spPr>
          <a:xfrm>
            <a:off x="21718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1"/>
          <p:cNvSpPr/>
          <p:nvPr/>
        </p:nvSpPr>
        <p:spPr>
          <a:xfrm>
            <a:off x="743040" y="4572000"/>
            <a:ext cx="53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2"/>
          <p:cNvSpPr/>
          <p:nvPr/>
        </p:nvSpPr>
        <p:spPr>
          <a:xfrm>
            <a:off x="743040" y="4572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3"/>
          <p:cNvSpPr/>
          <p:nvPr/>
        </p:nvSpPr>
        <p:spPr>
          <a:xfrm>
            <a:off x="600084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>
            <a:off x="6058080" y="45720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5"/>
          <p:cNvSpPr/>
          <p:nvPr/>
        </p:nvSpPr>
        <p:spPr>
          <a:xfrm flipH="1">
            <a:off x="743040" y="528336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8"/>
          <p:cNvSpPr/>
          <p:nvPr/>
        </p:nvSpPr>
        <p:spPr>
          <a:xfrm>
            <a:off x="743040" y="670572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9"/>
          <p:cNvSpPr/>
          <p:nvPr/>
        </p:nvSpPr>
        <p:spPr>
          <a:xfrm>
            <a:off x="3429000" y="4572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0"/>
          <p:cNvSpPr/>
          <p:nvPr/>
        </p:nvSpPr>
        <p:spPr>
          <a:xfrm>
            <a:off x="5886360" y="52833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1"/>
          <p:cNvSpPr/>
          <p:nvPr/>
        </p:nvSpPr>
        <p:spPr>
          <a:xfrm>
            <a:off x="5886360" y="660384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2"/>
          <p:cNvSpPr/>
          <p:nvPr/>
        </p:nvSpPr>
        <p:spPr>
          <a:xfrm flipH="1">
            <a:off x="5886000" y="792468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457200" y="8326440"/>
            <a:ext cx="1257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DM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/01/12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43:31Z</dcterms:created>
  <dc:creator>dmmanville</dc:creator>
  <dc:description/>
  <dc:language>en-US</dc:language>
  <cp:lastModifiedBy>Department Of The Interior</cp:lastModifiedBy>
  <cp:lastPrinted>2012-06-04T16:08:48Z</cp:lastPrinted>
  <dcterms:modified xsi:type="dcterms:W3CDTF">2012-06-06T12:57:22Z</dcterms:modified>
  <cp:revision>18</cp:revision>
  <dc:subject/>
  <dc:title>OFFICE OF HEARINGS AND APPEALS Organization Chart</dc:title>
</cp:coreProperties>
</file>