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B01-7439-4A7E-B600-C47EC934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A3F-FEA1-440E-BA29-B4669030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A1C-C17C-4BEA-80CD-FBD65C92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D07-DCE5-4FC7-A4FC-A245227E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B2A-51F8-4940-84B8-055CC317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63E-AA23-4430-9892-1A43AD11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B8C-690A-41C8-BB8C-1867174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434-FCC5-4484-B370-649C2C84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027-6278-4EE4-94BA-637696E0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0A5-734B-48AB-9808-AD860CB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319-C63D-4F01-A47A-7C6FF89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739-7173-461D-AAEE-6EE5DBC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2 DM 13        112 DM 1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9834-62A4-469F-AC4F-CBC71D83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HEARINGS AND APP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00280" y="1930320"/>
            <a:ext cx="16574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514760" y="2894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1930320"/>
            <a:ext cx="1542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14360" y="3251160"/>
            <a:ext cx="17146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EP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886200" y="3251160"/>
            <a:ext cx="1771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NSELOR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018040" y="38084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503440" y="1828800"/>
            <a:ext cx="189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2765520" y="197964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2571840" y="1930320"/>
            <a:ext cx="1695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914400" y="4775040"/>
            <a:ext cx="160020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2743200" y="4775040"/>
            <a:ext cx="137160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4572000" y="533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343400" y="4775040"/>
            <a:ext cx="154296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914400" y="6095880"/>
            <a:ext cx="1600200" cy="10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8"/>
          <p:cNvSpPr/>
          <p:nvPr/>
        </p:nvSpPr>
        <p:spPr>
          <a:xfrm>
            <a:off x="4343400" y="6095880"/>
            <a:ext cx="1542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S HEA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0"/>
          <p:cNvSpPr/>
          <p:nvPr/>
        </p:nvSpPr>
        <p:spPr>
          <a:xfrm>
            <a:off x="4343400" y="7416720"/>
            <a:ext cx="1542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2"/>
          <p:cNvSpPr/>
          <p:nvPr/>
        </p:nvSpPr>
        <p:spPr>
          <a:xfrm>
            <a:off x="3429000" y="28447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5"/>
          <p:cNvSpPr/>
          <p:nvPr/>
        </p:nvSpPr>
        <p:spPr>
          <a:xfrm>
            <a:off x="4857840" y="304812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6"/>
          <p:cNvSpPr/>
          <p:nvPr/>
        </p:nvSpPr>
        <p:spPr>
          <a:xfrm>
            <a:off x="2171880" y="304812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8"/>
          <p:cNvSpPr/>
          <p:nvPr/>
        </p:nvSpPr>
        <p:spPr>
          <a:xfrm>
            <a:off x="2171880" y="304812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9"/>
          <p:cNvSpPr/>
          <p:nvPr/>
        </p:nvSpPr>
        <p:spPr>
          <a:xfrm>
            <a:off x="21718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1"/>
          <p:cNvSpPr/>
          <p:nvPr/>
        </p:nvSpPr>
        <p:spPr>
          <a:xfrm>
            <a:off x="743040" y="4572000"/>
            <a:ext cx="53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2"/>
          <p:cNvSpPr/>
          <p:nvPr/>
        </p:nvSpPr>
        <p:spPr>
          <a:xfrm>
            <a:off x="743040" y="4572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3"/>
          <p:cNvSpPr/>
          <p:nvPr/>
        </p:nvSpPr>
        <p:spPr>
          <a:xfrm>
            <a:off x="600084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4"/>
          <p:cNvSpPr/>
          <p:nvPr/>
        </p:nvSpPr>
        <p:spPr>
          <a:xfrm>
            <a:off x="6058080" y="45720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5"/>
          <p:cNvSpPr/>
          <p:nvPr/>
        </p:nvSpPr>
        <p:spPr>
          <a:xfrm flipH="1">
            <a:off x="743040" y="528336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8"/>
          <p:cNvSpPr/>
          <p:nvPr/>
        </p:nvSpPr>
        <p:spPr>
          <a:xfrm>
            <a:off x="743040" y="670572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9"/>
          <p:cNvSpPr/>
          <p:nvPr/>
        </p:nvSpPr>
        <p:spPr>
          <a:xfrm>
            <a:off x="3429000" y="4572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0"/>
          <p:cNvSpPr/>
          <p:nvPr/>
        </p:nvSpPr>
        <p:spPr>
          <a:xfrm>
            <a:off x="5886360" y="528336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1"/>
          <p:cNvSpPr/>
          <p:nvPr/>
        </p:nvSpPr>
        <p:spPr>
          <a:xfrm>
            <a:off x="5886360" y="660384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2"/>
          <p:cNvSpPr/>
          <p:nvPr/>
        </p:nvSpPr>
        <p:spPr>
          <a:xfrm flipH="1">
            <a:off x="5886000" y="792468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1"/>
          <p:cNvSpPr/>
          <p:nvPr/>
        </p:nvSpPr>
        <p:spPr>
          <a:xfrm>
            <a:off x="457200" y="8326440"/>
            <a:ext cx="1257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DM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/01/12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43:31Z</dcterms:created>
  <dc:creator>dmmanville</dc:creator>
  <dc:description/>
  <dc:language>en-US</dc:language>
  <cp:lastModifiedBy>Department Of The Interior</cp:lastModifiedBy>
  <cp:lastPrinted>2012-06-04T16:08:48Z</cp:lastPrinted>
  <dcterms:modified xsi:type="dcterms:W3CDTF">2012-06-06T12:57:22Z</dcterms:modified>
  <cp:revision>18</cp:revision>
  <dc:subject/>
  <dc:title>OFFICE OF HEARINGS AND APPEALS Organization Chart</dc:title>
</cp:coreProperties>
</file>