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2 DM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4526-01D2-4522-8260-E0D4F8ECA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Header Placeholder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2 DM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8EE9-8FC7-4B77-861E-ABCD37D4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79E-C102-4B6D-B7B8-4C777830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5DF3-C3F4-42BB-91BD-F269EECC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9D78-6BD6-45D5-8C31-AD73A569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222A-ADBF-4E9A-8EB3-8A45025C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33D6-21B3-4A66-8AEA-C5136996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B1EB-C8A9-4981-A4CA-2856D3BE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9A57-2590-4BF9-875C-6B4BE9EF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4261-CCF0-4D97-A41A-7FF96D90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686D-EC63-42A5-9263-1DFED4CC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DD3B-65D6-4EE4-B86D-E0C41CFC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5B1-0837-4BAD-A0D2-A8A07646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125D-C687-4217-BEB4-4314D40EA7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7/14/14 #3988 Replaces  10/19/10  #38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68A8-9007-4269-8CA7-4465ABEE1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905120" y="10666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ice of International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514600" y="2590920"/>
            <a:ext cx="1828800" cy="85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4038480" y="3977640"/>
            <a:ext cx="164628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Staf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5"/>
          <p:cNvSpPr/>
          <p:nvPr/>
        </p:nvSpPr>
        <p:spPr>
          <a:xfrm>
            <a:off x="3429000" y="3514680"/>
            <a:ext cx="27000" cy="210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6"/>
          <p:cNvSpPr/>
          <p:nvPr/>
        </p:nvSpPr>
        <p:spPr>
          <a:xfrm flipV="1">
            <a:off x="3438360" y="4222800"/>
            <a:ext cx="60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33520" y="5642640"/>
            <a:ext cx="1646280" cy="88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2631960" y="5622840"/>
            <a:ext cx="1646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3"/>
          <p:cNvSpPr/>
          <p:nvPr/>
        </p:nvSpPr>
        <p:spPr>
          <a:xfrm>
            <a:off x="1352520" y="5029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4732200" y="5622840"/>
            <a:ext cx="1646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port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8"/>
          <p:cNvSpPr/>
          <p:nvPr/>
        </p:nvSpPr>
        <p:spPr>
          <a:xfrm flipH="1" flipV="1">
            <a:off x="1353600" y="5028840"/>
            <a:ext cx="3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31"/>
          <p:cNvSpPr/>
          <p:nvPr/>
        </p:nvSpPr>
        <p:spPr>
          <a:xfrm flipH="1">
            <a:off x="5556240" y="5029200"/>
            <a:ext cx="648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ooter Placeholder 1"/>
          <p:cNvSpPr/>
          <p:nvPr/>
        </p:nvSpPr>
        <p:spPr>
          <a:xfrm>
            <a:off x="228600" y="8475840"/>
            <a:ext cx="2514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7/14/14 #3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Replaces  10/19/10  #38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5029200" y="3816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2 DM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4:42:11Z</dcterms:created>
  <dc:creator>Kathleen J. H. Wheeler</dc:creator>
  <dc:description/>
  <dc:language>en-US</dc:language>
  <cp:lastModifiedBy>Wilson, Hazel A</cp:lastModifiedBy>
  <dcterms:modified xsi:type="dcterms:W3CDTF">2014-07-16T21:21:07Z</dcterms:modified>
  <cp:revision>29</cp:revision>
  <dc:subject/>
  <dc:title>Slide 1</dc:title>
</cp:coreProperties>
</file>