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 DM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6B6F-6200-45E0-B3FC-24C0B0DA4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Header Placeholder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 DM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40D-9188-4659-99B3-C2F24F28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C60-120F-4B1D-A09E-3EC38E48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078-4663-46CF-AB26-3998BA98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F1D-F1E4-442F-8F43-39AA4DDE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6C9-8F25-4733-8BCD-BC2E4CF5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907-9006-4063-9890-FEE6FB08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D1C-202E-4B12-9837-4A097DD9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D25-3D2C-4503-96F8-90CBF96D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729-D24D-4D62-A024-F5C41245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070-7C6F-4EC7-930D-D9FBC433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4B4-729F-4276-88B4-A44FD6A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3B5-AB2A-4816-9ED6-D5CF7453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8E15-6E68-46EA-A166-63421329C2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7/14/14 #3988 Replaces  10/19/10  #38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3E0F-0ED2-439C-AA2A-756691DCE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905120" y="10666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 of International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514600" y="2590920"/>
            <a:ext cx="1828800" cy="85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4038480" y="3977640"/>
            <a:ext cx="16462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Sta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3429000" y="3514680"/>
            <a:ext cx="27000" cy="210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 flipV="1">
            <a:off x="3438360" y="4222800"/>
            <a:ext cx="60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5642640"/>
            <a:ext cx="1646280" cy="88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2631960" y="5622840"/>
            <a:ext cx="1646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3"/>
          <p:cNvSpPr/>
          <p:nvPr/>
        </p:nvSpPr>
        <p:spPr>
          <a:xfrm>
            <a:off x="1352520" y="5029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732200" y="5622840"/>
            <a:ext cx="1646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port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8"/>
          <p:cNvSpPr/>
          <p:nvPr/>
        </p:nvSpPr>
        <p:spPr>
          <a:xfrm flipH="1" flipV="1">
            <a:off x="1353600" y="5028840"/>
            <a:ext cx="3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31"/>
          <p:cNvSpPr/>
          <p:nvPr/>
        </p:nvSpPr>
        <p:spPr>
          <a:xfrm flipH="1">
            <a:off x="5556240" y="5029200"/>
            <a:ext cx="64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1"/>
          <p:cNvSpPr/>
          <p:nvPr/>
        </p:nvSpPr>
        <p:spPr>
          <a:xfrm>
            <a:off x="228600" y="8475840"/>
            <a:ext cx="2514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7/14/14 #3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Replaces  10/19/10  #38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5029200" y="3816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 DM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4:42:11Z</dcterms:created>
  <dc:creator>Kathleen J. H. Wheeler</dc:creator>
  <dc:description/>
  <dc:language>en-US</dc:language>
  <cp:lastModifiedBy>Wilson, Hazel A</cp:lastModifiedBy>
  <dcterms:modified xsi:type="dcterms:W3CDTF">2014-07-16T21:21:07Z</dcterms:modified>
  <cp:revision>29</cp:revision>
  <dc:subject/>
  <dc:title>Slide 1</dc:title>
</cp:coreProperties>
</file>